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A22-2AA0-45BC-BA86-95E23171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D7D-472E-4A2E-8A0C-4FE57B80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64D-A2F8-45BC-BABD-684F1A7D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67F-67C7-4EDD-803B-1C10DE2D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ABB-9651-4897-9DB9-6BCECB1B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F1B5-7D42-4794-8095-FFFB7B7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464B-5FD1-47B7-84D3-4D9D6A79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0247-3E7F-426A-B07E-7FE077D2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AA5D-1619-4B6F-B396-BB0832B3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6DC-DDDB-4526-868D-D7BE7F4A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46A2-327D-41D7-9E9C-E7B6E96F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207-F775-4622-A50D-E6236A50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E829-2F6C-44FE-A6F9-7EBBDDF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67F7-B73E-4634-8E46-D0DA360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3D2-FC94-4BDE-A3AA-639D798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44A2-DBF7-4EC6-9DB3-C87213F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732B-C033-479B-A6D6-7882F9B1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A4A-EBD3-49CE-BABF-20C1336A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ACD-8C77-417E-9DDF-1FAB5DFC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609-99C6-4F5F-A2B0-40D31B8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350-C84B-4BBC-A495-08AF644A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31C-778E-495A-8F96-FD170A0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1A8-5CD1-4CD2-BFF2-B57C711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F6B-01D6-4EDB-9A76-8E93C5E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5F8B-10BD-4241-BF0A-682E16C1E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CFF-4C1B-4050-9CB9-A6A9CCD13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Arial Black"/>
              </a:rPr>
              <a:t>WELCOME TO SCIENCE!</a:t>
            </a:r>
            <a:endParaRPr b="1" lang="en-US" sz="6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41148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ptember 2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845080" cy="219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BC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are with your group something funny that happened this summ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Things Needed…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Ring Not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it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7</a:t>
            </a:r>
            <a:r>
              <a:rPr b="1" lang="en-US" sz="4400" spc="-1" strike="noStrike" baseline="30000">
                <a:solidFill>
                  <a:srgbClr val="f8f8f8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 Boys Book Checkout!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&amp; Number to Mrs. Riff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ess Your Classmate </a:t>
            </a:r>
            <a:r>
              <a:rPr b="1" lang="en-US" sz="44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8</a:t>
            </a:r>
            <a:r>
              <a:rPr b="1" lang="en-US" sz="5400" spc="-1" strike="noStrike" baseline="30000">
                <a:solidFill>
                  <a:srgbClr val="f8f8f8"/>
                </a:solidFill>
                <a:latin typeface="Arial Black"/>
              </a:rPr>
              <a:t>th</a:t>
            </a: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 Science Journals!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get it started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HOMEWORK </a:t>
            </a: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(Quiz to Follow)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ze Chemical 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, He, B, C, N, 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, He, Li, Be, B, C, N, O, F, 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, Mg, Al, Si, P, S, Cl, 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Science </a:t>
            </a:r>
            <a:r>
              <a:rPr b="1" lang="en-US" sz="4800" spc="-1" strike="noStrike">
                <a:solidFill>
                  <a:srgbClr val="f8f8f8"/>
                </a:solidFill>
                <a:latin typeface="Arial Black"/>
              </a:rPr>
              <a:t>(To Discover)</a:t>
            </a:r>
            <a:endParaRPr b="1" lang="en-US" sz="4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(Life Sci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3:37:57Z</dcterms:created>
  <dc:creator>Sterling Grade School</dc:creator>
  <dc:description/>
  <dc:language>en-US</dc:language>
  <cp:lastModifiedBy>Sterling Grade School</cp:lastModifiedBy>
  <dcterms:modified xsi:type="dcterms:W3CDTF">2010-09-02T19:11:20Z</dcterms:modified>
  <cp:revision>3</cp:revision>
  <dc:subject/>
  <dc:title>WELCOME TO SCIENCE!</dc:title>
</cp:coreProperties>
</file>